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5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6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75117C-C793-4C04-B43E-ADDD42A9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7D8207-2EAF-4C97-8604-C711FFE26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EA0DAE-83C2-43EF-8E7D-8AE51CE1A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BF9EB0-AFCF-4DC0-A351-65906231D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451A5B-EE0D-46BD-94BB-8224C78CF0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CBEF5D-D12D-44A0-B138-46B4B1744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ED0BDC-B001-40E6-A1FC-F11D4411C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457DEC-A907-492A-8310-79680E3E6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99A-A9D4-4D2C-8E35-DFD0B5C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2AD-7DFB-48D0-BDC3-4F81D03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089-507E-4D89-A1AB-7FA6B981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E7E-5EB2-4281-B8F3-029A175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322-B06C-460B-ACAF-856AE59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AD4-DF51-425C-A1DD-43340B9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405-E7A2-49EE-B2D2-6215AD2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464-1BBD-4605-B621-36848BC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C5B-7B86-4201-8B90-2D9F1B1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EB1-3B25-430C-A652-DCD81B7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19B-FCBC-4BF0-95DA-B12E02E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4EB-0A59-4D11-A345-0B4C8E4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AD9E-BAF4-4381-B568-8AF94B557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producers help an eco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decomposers help an eco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be how energy flows through a food chain /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be how energy flows through a food chain /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152280"/>
            <a:ext cx="2666880" cy="70380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days have not done this yet – 2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76320" y="1219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An example of an ecosystem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An abiotic factor within this ecosystem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A biotic factor in this ecosystem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Re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type of consumer is the whale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ph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al e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es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lga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e i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erg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90920" y="1444680"/>
            <a:ext cx="7086600" cy="571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029200" y="6186600"/>
            <a:ext cx="1219320" cy="3682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2666880"/>
            <a:ext cx="1219320" cy="642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elephant s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Announce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654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z = Wednesday 2-23                        (odd days) Thursday 2-24 (even days)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tudy guide provided on Wednesday 2-16 (even days) Thursday 2-17 (odd days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d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00" y="990720"/>
            <a:ext cx="8509320" cy="5443560"/>
            <a:chOff x="79200" y="990720"/>
            <a:chExt cx="8509320" cy="5443560"/>
          </a:xfrm>
        </p:grpSpPr>
        <p:grpSp>
          <p:nvGrpSpPr>
            <p:cNvPr id="171" name=""/>
            <p:cNvGrpSpPr/>
            <p:nvPr/>
          </p:nvGrpSpPr>
          <p:grpSpPr>
            <a:xfrm>
              <a:off x="1066320" y="990720"/>
              <a:ext cx="7010280" cy="5330160"/>
              <a:chOff x="1066320" y="990720"/>
              <a:chExt cx="7010280" cy="53301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066320" y="1375560"/>
                <a:ext cx="7010280" cy="4945320"/>
                <a:chOff x="1066320" y="1375560"/>
                <a:chExt cx="7010280" cy="4945320"/>
              </a:xfrm>
            </p:grpSpPr>
            <p:sp>
              <p:nvSpPr>
                <p:cNvPr id="173" name=""/>
                <p:cNvSpPr/>
                <p:nvPr/>
              </p:nvSpPr>
              <p:spPr>
                <a:xfrm flipH="1">
                  <a:off x="3128040" y="1375560"/>
                  <a:ext cx="1030680" cy="453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716200" y="2298240"/>
                  <a:ext cx="39175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251840" y="3811680"/>
                  <a:ext cx="824760" cy="90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066680" y="2903760"/>
                  <a:ext cx="5154840" cy="181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6840000" y="2298240"/>
                  <a:ext cx="2059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91440" y="3962880"/>
                  <a:ext cx="4330080" cy="907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7664400" y="2297880"/>
                  <a:ext cx="412200" cy="1058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891440" y="2297880"/>
                  <a:ext cx="4536000" cy="1361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40960" y="2146680"/>
                  <a:ext cx="2886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716200" y="2298240"/>
                  <a:ext cx="39175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128040" y="5021640"/>
                  <a:ext cx="371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1066320" y="2298240"/>
                  <a:ext cx="824760" cy="30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272240" y="2298240"/>
                  <a:ext cx="1030680" cy="1361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6040400">
                  <a:off x="5121360" y="3893400"/>
                  <a:ext cx="756360" cy="3917520"/>
                </a:xfrm>
                <a:custGeom>
                  <a:avLst/>
                  <a:gdLst>
                    <a:gd name="textAreaLeft" fmla="*/ 483120 w 756360"/>
                    <a:gd name="textAreaRight" fmla="*/ 756720 w 756360"/>
                    <a:gd name="textAreaTop" fmla="*/ 101880 h 3917520"/>
                    <a:gd name="textAreaBottom" fmla="*/ 3815640 h 391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202640" y="990720"/>
                <a:ext cx="66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14200" y="1631160"/>
                <a:ext cx="1067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lant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lankt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9200" y="25340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dpo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2640" y="36734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yf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arva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2160" y="476136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ingfis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4800" y="474624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nfi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5400" y="60660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3200" y="17762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nn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9480" y="3178440"/>
              <a:ext cx="14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cro-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vertebra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54944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320" y="152280"/>
            <a:ext cx="2666880" cy="100872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days need to go over answers on 2-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610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oncept Ma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Chain Concept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717480"/>
            <a:ext cx="2819520" cy="16765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327320"/>
            <a:ext cx="2057400" cy="4597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400" y="193680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013120"/>
            <a:ext cx="129528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s with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6226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851200"/>
            <a:ext cx="152424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244400">
            <a:off x="285480" y="1423800"/>
            <a:ext cx="901440" cy="1598400"/>
          </a:xfrm>
          <a:custGeom>
            <a:avLst/>
            <a:gdLst>
              <a:gd name="textAreaLeft" fmla="*/ 120600 w 901440"/>
              <a:gd name="textAreaRight" fmla="*/ 780840 w 901440"/>
              <a:gd name="textAreaTop" fmla="*/ 279720 h 1598400"/>
              <a:gd name="textAreaBottom" fmla="*/ 1158840 h 15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22400"/>
            <a:ext cx="1143000" cy="11430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14400" y="1098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47920" y="1098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2120" y="1708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295280" y="161784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>
            <a:off x="685800" y="3460680"/>
            <a:ext cx="5335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613320"/>
            <a:ext cx="76320" cy="111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841920"/>
            <a:ext cx="1600200" cy="337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amples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8322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70560"/>
            <a:ext cx="14479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ich use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483228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470560"/>
            <a:ext cx="14475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ich use chem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089080"/>
            <a:ext cx="152280" cy="103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3084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2394000"/>
            <a:ext cx="12952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ins at least 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156120"/>
            <a:ext cx="1676160" cy="425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124080"/>
            <a:ext cx="106704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ides energy 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876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66720" y="4648320"/>
            <a:ext cx="8384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191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9732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648320"/>
            <a:ext cx="16761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6483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362320" y="3580920"/>
            <a:ext cx="1371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4267080"/>
            <a:ext cx="68580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5105520"/>
            <a:ext cx="9903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5927760"/>
            <a:ext cx="106704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only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019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571640" y="5791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57913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92776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bo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257800" y="5791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5867280" y="579096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5943600"/>
            <a:ext cx="76212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58000" y="579096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95320" y="5105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7913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93704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495288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205740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9216600">
            <a:off x="6700320" y="2878200"/>
            <a:ext cx="1846440" cy="1371600"/>
          </a:xfrm>
          <a:prstGeom prst="leftArrow">
            <a:avLst>
              <a:gd name="adj1" fmla="val 50000"/>
              <a:gd name="adj2" fmla="val 336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978200">
            <a:off x="6867360" y="3569400"/>
            <a:ext cx="15634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ken down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243828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666880"/>
            <a:ext cx="167616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52280" y="511956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511956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3505320"/>
            <a:ext cx="152388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3062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233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049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prim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20718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second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23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terti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rn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erb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0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mn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30621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decom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20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Chain Concept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717480"/>
            <a:ext cx="2819520" cy="16765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1327320"/>
            <a:ext cx="2057400" cy="4597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057400" y="193680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2013120"/>
            <a:ext cx="129528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s with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26226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2851200"/>
            <a:ext cx="121896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244400">
            <a:off x="285480" y="1423800"/>
            <a:ext cx="901440" cy="1598400"/>
          </a:xfrm>
          <a:custGeom>
            <a:avLst/>
            <a:gdLst>
              <a:gd name="textAreaLeft" fmla="*/ 120600 w 901440"/>
              <a:gd name="textAreaRight" fmla="*/ 780840 w 901440"/>
              <a:gd name="textAreaTop" fmla="*/ 279720 h 1598400"/>
              <a:gd name="textAreaBottom" fmla="*/ 1158840 h 15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22400"/>
            <a:ext cx="1143000" cy="11430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1098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47920" y="1098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1708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1295280" y="161784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685800" y="3460680"/>
            <a:ext cx="5335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3613320"/>
            <a:ext cx="76320" cy="111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41920"/>
            <a:ext cx="1600200" cy="337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amples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8322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483228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2089080"/>
            <a:ext cx="152280" cy="103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33084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353700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394000"/>
            <a:ext cx="12952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ins at least 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156120"/>
            <a:ext cx="1676160" cy="425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124080"/>
            <a:ext cx="106704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ides energy 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876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266720" y="4648320"/>
            <a:ext cx="8384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191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29732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648320"/>
            <a:ext cx="16761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6483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62320" y="3580920"/>
            <a:ext cx="1371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267080"/>
            <a:ext cx="68580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5105520"/>
            <a:ext cx="9903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im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cond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rti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arn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ats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5927760"/>
            <a:ext cx="106704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only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6019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Herb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eats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4571640" y="5791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57800" y="57913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592776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omn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ats bo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257800" y="5791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867280" y="579096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5943600"/>
            <a:ext cx="76212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58000" y="579096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495320" y="5105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7913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93704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495288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205740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9040800">
            <a:off x="6629400" y="2895480"/>
            <a:ext cx="1922400" cy="1371600"/>
          </a:xfrm>
          <a:prstGeom prst="leftArrow">
            <a:avLst>
              <a:gd name="adj1" fmla="val 50000"/>
              <a:gd name="adj2" fmla="val 3503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9870800">
            <a:off x="6773400" y="3572640"/>
            <a:ext cx="15634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ken down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266688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compo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70560"/>
            <a:ext cx="1447920" cy="39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hich use photosynthe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5470560"/>
            <a:ext cx="1447560" cy="39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hich use chemosynthe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511956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511956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86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es an energy pyramid tell us about an ecosystem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-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76320" y="1219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Fill in the blanks to create a feasible scenario: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chicken ate some ____ which makes it a primary consumer.  I ate the chicken which makes me a ____.  A ____ bit me which makes it a 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1219320"/>
            <a:ext cx="4753080" cy="37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5724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 Black"/>
              </a:rPr>
              <a:t>QUIZ</a:t>
            </a:r>
            <a:endParaRPr b="0" lang="en-US" sz="1800" spc="1" strike="noStrike">
              <a:ln cap="rnd" w="5724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Announce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654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z = Wednesday 2-23                        (odd days) Thursday 2-24 (even days)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tudy guide provided on Wednesday 2-16 (even days) Thursday 2-17 (odd days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cosystem Terms – Energy Pyrami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762480" y="106668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 up of levels that show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mount of energy in a 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7720" indent="-747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10% r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move from one level to the next, there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ss of energy.  This means that onl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t passed on to the next leve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es all the energy go??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nergy gets lost as heat or is used by the organism to move, breathe, etc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620120" y="1600200"/>
            <a:ext cx="1143000" cy="1295280"/>
            <a:chOff x="7620120" y="1600200"/>
            <a:chExt cx="1143000" cy="1295280"/>
          </a:xfrm>
        </p:grpSpPr>
        <p:sp>
          <p:nvSpPr>
            <p:cNvPr id="349" name="Pyr1"/>
            <p:cNvSpPr/>
            <p:nvPr/>
          </p:nvSpPr>
          <p:spPr>
            <a:xfrm>
              <a:off x="8064720" y="1600200"/>
              <a:ext cx="255960" cy="286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Pyr2"/>
            <p:cNvSpPr/>
            <p:nvPr/>
          </p:nvSpPr>
          <p:spPr>
            <a:xfrm>
              <a:off x="7916400" y="1887120"/>
              <a:ext cx="551520" cy="336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Pyr3"/>
            <p:cNvSpPr/>
            <p:nvPr/>
          </p:nvSpPr>
          <p:spPr>
            <a:xfrm>
              <a:off x="7769520" y="2224080"/>
              <a:ext cx="844920" cy="336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Pyr4"/>
            <p:cNvSpPr/>
            <p:nvPr/>
          </p:nvSpPr>
          <p:spPr>
            <a:xfrm>
              <a:off x="7620120" y="2558880"/>
              <a:ext cx="1143000" cy="3366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energy is lost at each step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s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,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,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533160" y="1676520"/>
            <a:ext cx="7848720" cy="4190760"/>
            <a:chOff x="533160" y="1676520"/>
            <a:chExt cx="7848720" cy="4190760"/>
          </a:xfrm>
        </p:grpSpPr>
        <p:sp>
          <p:nvSpPr>
            <p:cNvPr id="356" name="Line 4"/>
            <p:cNvSpPr/>
            <p:nvPr/>
          </p:nvSpPr>
          <p:spPr>
            <a:xfrm flipH="1">
              <a:off x="533520" y="1676520"/>
              <a:ext cx="4114800" cy="419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>
              <a:off x="4648320" y="1676520"/>
              <a:ext cx="3733560" cy="419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H="1">
              <a:off x="533160" y="58672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>
              <a:off x="1371240" y="4952880"/>
              <a:ext cx="61722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>
              <a:off x="2209680" y="4191120"/>
              <a:ext cx="4647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>
              <a:off x="2895480" y="350532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>
              <a:off x="3505320" y="2828880"/>
              <a:ext cx="213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Rectangle 11"/>
          <p:cNvSpPr/>
          <p:nvPr/>
        </p:nvSpPr>
        <p:spPr>
          <a:xfrm>
            <a:off x="228600" y="60980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use eats 100,000 calories of seeds…but only retains 10,000 calories in its body…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ight Arrow 14"/>
          <p:cNvSpPr/>
          <p:nvPr/>
        </p:nvSpPr>
        <p:spPr>
          <a:xfrm rot="20710800">
            <a:off x="852120" y="5369040"/>
            <a:ext cx="258444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itle 1"/>
          <p:cNvSpPr/>
          <p:nvPr/>
        </p:nvSpPr>
        <p:spPr>
          <a:xfrm>
            <a:off x="1066680" y="125280"/>
            <a:ext cx="7086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Quick Ta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920" y="1143000"/>
            <a:ext cx="5029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bivo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7040" indent="-123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486400" y="1143000"/>
            <a:ext cx="3505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osystem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7040" indent="-123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4572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ucmp.berkeley.edu/exhibits/biomes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Eco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320" y="68580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and draw your own food chain.  It mus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least two consumers (labeled correctly – primary, secondary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it must show the 4 essentials for a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181480"/>
            <a:ext cx="8991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rything MUST be labeled appropriately (secondary producer, decomposer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so label each consumer as an herbivore, carnivore, or an omniv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-228600"/>
            <a:ext cx="8915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523880"/>
            <a:ext cx="2666880" cy="131364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d days stopped – 2-11 – but did not do Q of the Day or review sl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sound to hear that you have probably been a source of food for many organisms?  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When a mosquito bites you, she is taking your blood for energy for her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29080" cy="189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1905120" cy="186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514600" y="2666880"/>
            <a:ext cx="2438280" cy="173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1219320" y="45147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380880" y="5105520"/>
            <a:ext cx="118116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019920" y="4749840"/>
            <a:ext cx="3124080" cy="210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2971800" cy="121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320" y="6324480"/>
            <a:ext cx="8991360" cy="703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youtube.com/watch?v=nHHQIQsPvGc&amp;feature     = bot fl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28600" y="2908440"/>
            <a:ext cx="5257800" cy="3949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-38088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ood Ch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ease create a food chain using the following 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uses the sun’s energy to produce its food, which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would be consider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is used for food by a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would be consider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  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’s blood is used for food by the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quito is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_______________ 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29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048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510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PRIMARY 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5500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943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960" y="3808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quito is food for a dragon fly (_____________ _____________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agon fly is food for a frog (____  ___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___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og dies and is broken down by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is considered a 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ayed organism’s ______________ are returned to the so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ow take _________________________ from the soil to g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7761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TERT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7761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1233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Ravie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 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614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9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DECOM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42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343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Ravie"/>
              </a:rPr>
              <a:t>NUTRIENTS +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04760"/>
            <a:ext cx="7315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Food Web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OD WEB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series of connected food ch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webs are more complicated than food ch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y show ALL the relationships between the specified organis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5410080"/>
            <a:ext cx="2666880" cy="131364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d days go over last question and get study guide – 2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3:03:08Z</dcterms:created>
  <dc:creator>SASD</dc:creator>
  <dc:description/>
  <dc:language>en-US</dc:language>
  <cp:lastModifiedBy>SASD</cp:lastModifiedBy>
  <dcterms:modified xsi:type="dcterms:W3CDTF">2011-02-25T11:37:53Z</dcterms:modified>
  <cp:revision>240</cp:revision>
  <dc:subject/>
  <dc:title>Slide 1</dc:title>
</cp:coreProperties>
</file>